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D3F-78CD-42D3-AB98-2C8A34D1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70FF-6C1F-49B9-BE25-B2BEB886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36DE-FF48-49E8-9B0B-A9BDA763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48A-2BBF-4BE6-9C55-3B05BBEA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E0C7-2D37-41D3-9C49-3553C9B4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2590-4080-4562-8D84-C2E2224A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08D7-DC89-465A-9FC1-18A563F2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6F8F-6AAA-480C-A941-4BAEDA78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7AAA-395C-4220-ACE3-2D819011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4805-5911-4048-A148-D4828539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3625-276E-44F1-8C81-628F2FE3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3AEF-820E-47EF-939D-A8764567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B4FE-CAC7-4AC5-B7AE-6E2B17D4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7BB3-43AA-4C50-8B4F-6E4EA45B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7163-D8E2-41CE-96E2-D53A226A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1C5C-BD99-43EB-94BB-A62DC37E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D047-4DA3-4F79-AC01-53F4743A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8F2-098B-4EBB-900C-2B8F73BE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54F-621A-409B-BC87-AC3EC13D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B6B-F418-4C67-A846-FF30D59C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A66-45E1-45B7-8ED0-24B94FA9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D7F4-0CB6-4746-B666-4A9A6C12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D491-F1BE-4620-BF9F-3CB8E8A0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EC70-D288-4CE2-8982-2204AB06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1E0A-1A88-48D8-BBD7-5C09F28084F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C6E1-9135-4D01-B445-891BFDC65C7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parama.lt/es_parama_pletra/failai/fm/teises_aktai/Stebesenos_komiteto_nutarimai/VP1-2009-05-18-1.pdf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38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Lietuvos 2007–2013 m. ES struktūrinės paramos panaudojimo strategija ir veiksmų programos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6666"/>
                </a:solidFill>
                <a:latin typeface="Arial"/>
              </a:rPr>
              <a:t>Kas yra ES struktūrinė parama?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Europos Sąjungos struktūrinė parama nuosekliai mažina socialinius ir ekonominius skirtumus tarp ES šalių narių ar atskirų regionų. </a:t>
            </a:r>
            <a:r>
              <a:rPr b="0" lang="pt-PT" sz="2800" spc="-1" strike="noStrike">
                <a:solidFill>
                  <a:srgbClr val="006666"/>
                </a:solidFill>
                <a:latin typeface="Arial"/>
              </a:rPr>
              <a:t>Jos pamatin</a:t>
            </a: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ė</a:t>
            </a:r>
            <a:r>
              <a:rPr b="0" lang="pt-PT" sz="2800" spc="-1" strike="noStrike">
                <a:solidFill>
                  <a:srgbClr val="006666"/>
                </a:solidFill>
                <a:latin typeface="Arial"/>
              </a:rPr>
              <a:t>s vertyb</a:t>
            </a: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ė</a:t>
            </a:r>
            <a:r>
              <a:rPr b="0" lang="pt-PT" sz="2800" spc="-1" strike="noStrike">
                <a:solidFill>
                  <a:srgbClr val="006666"/>
                </a:solidFill>
                <a:latin typeface="Arial"/>
              </a:rPr>
              <a:t>s– „solidarumas“ ir „sanglauda“.</a:t>
            </a:r>
            <a:r>
              <a:rPr b="0" lang="pt-PT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5410080"/>
            <a:ext cx="3733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Atestuota</a:t>
            </a:r>
            <a:r>
              <a:rPr b="0" lang="lt-LT" sz="1600" spc="-1" strike="noStrike">
                <a:solidFill>
                  <a:srgbClr val="006666"/>
                </a:solidFill>
                <a:latin typeface="Arial"/>
              </a:rPr>
              <a:t> inžinierė Vilma Mockaitienė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6666"/>
                </a:solidFill>
                <a:latin typeface="Arial"/>
              </a:rPr>
              <a:t>Tel. 8-620-29707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6666"/>
                </a:solidFill>
                <a:latin typeface="Arial"/>
              </a:rPr>
              <a:t>v.mockaitiene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@gmail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04960" y="95724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66"/>
                </a:solidFill>
                <a:latin typeface="Arial"/>
              </a:rPr>
              <a:t>ES struktūrinės paramos panaudojimo tikslas</a:t>
            </a: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parčiai gerinti sąlygas investuoti, dirbti ir gyventi Lietuvoje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ad ūkio augimo teikiama nauda pasiektų visus Lietuvos gyventoj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urti patrauklią aplinką gyventi ir dirbti kaimo vietovėse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14680" y="890640"/>
            <a:ext cx="7818840" cy="7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66"/>
                </a:solidFill>
                <a:latin typeface="Arial"/>
              </a:rPr>
              <a:t>Fondų paramos prioritetinės temo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(1) Produktyvūs žmogiškieji ištekliai žinių visuomen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(2) Konkurencinga ekonomi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(3) Gyvenimo kokybė ir sanglau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Žmogiškųjų išteklių plėtros veiksmų programa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kirta visų darbingo amžiaus Lietuvos gyventojų mobilizavimui, nes investicijos į Lietuvos žmonių žinias, gebėjimus, aktyvumą, verslumą patikimai garantuoja ilgalaikį ūkio augimą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6666"/>
                </a:solidFill>
                <a:latin typeface="Arial"/>
              </a:rPr>
              <a:t>Ekonomikos augimo veiksmų programa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numatoma skirti didžiausią paramos lėšų dalį. Net 10 proc. lėšų numatoma skiri ūkio konkurencingumui ir ekonomikos augimui skirtiems moksliniams tyrimams ir technologinei plėtra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6666"/>
                </a:solidFill>
                <a:latin typeface="Arial"/>
              </a:rPr>
              <a:t>Sanglaudos skatinimo veiksmų programa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uri įgyvendinti viziją apie darnesnę visuomenę. Taigi gyvenimo aplinkos ir kokybės gerinimui, mažinant atskirų regionų skirtum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6666"/>
                </a:solidFill>
                <a:latin typeface="Arial"/>
              </a:rPr>
              <a:t>Techninės paramos veiksmų programa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pecialioji, papildoma  veiksmų programa, skirta administruoti teminėms veiksmų programom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04960" y="95724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www.esparama.l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715176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as</cp:lastModifiedBy>
  <dcterms:modified xsi:type="dcterms:W3CDTF">2011-01-09T12:31:2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